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5.png" ContentType="image/png"/>
  <Override PartName="/ppt/media/image54.jpeg" ContentType="image/jpeg"/>
  <Override PartName="/ppt/media/image58.jpeg" ContentType="image/jpeg"/>
  <Override PartName="/ppt/media/image32.png" ContentType="image/png"/>
  <Override PartName="/ppt/media/image25.jpeg" ContentType="image/jpeg"/>
  <Override PartName="/ppt/media/image1.png" ContentType="image/png"/>
  <Override PartName="/ppt/media/image31.png" ContentType="image/png"/>
  <Override PartName="/ppt/media/image24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15.jpeg" ContentType="image/jpeg"/>
  <Override PartName="/ppt/media/image6.jpeg" ContentType="image/jpeg"/>
  <Override PartName="/ppt/media/image18.png" ContentType="image/png"/>
  <Override PartName="/ppt/media/image57.png" ContentType="image/png"/>
  <Override PartName="/ppt/media/image20.png" ContentType="image/png"/>
  <Override PartName="/ppt/media/image36.jpeg" ContentType="image/jpeg"/>
  <Override PartName="/ppt/media/image62.png" ContentType="image/png"/>
  <Override PartName="/ppt/media/image11.jpeg" ContentType="image/jpeg"/>
  <Override PartName="/ppt/media/image28.jpeg" ContentType="image/jpeg"/>
  <Override PartName="/ppt/media/image17.jpeg" ContentType="image/jpeg"/>
  <Override PartName="/ppt/media/image26.png" ContentType="image/png"/>
  <Override PartName="/ppt/media/image63.png" ContentType="image/png"/>
  <Override PartName="/ppt/media/image61.jpeg" ContentType="image/jpeg"/>
  <Override PartName="/ppt/media/image8.wmf" ContentType="image/x-wmf"/>
  <Override PartName="/ppt/media/image29.png" ContentType="image/png"/>
  <Override PartName="/ppt/media/image64.png" ContentType="image/png"/>
  <Override PartName="/ppt/media/image60.jpeg" ContentType="image/jpeg"/>
  <Override PartName="/ppt/media/image49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3.png" ContentType="image/png"/>
  <Override PartName="/ppt/media/image5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30.jpeg" ContentType="image/jpeg"/>
  <Override PartName="/ppt/media/image35.jpeg" ContentType="image/jpeg"/>
  <Override PartName="/ppt/media/image47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43.jpeg" ContentType="image/jpeg"/>
  <Override PartName="/ppt/media/image45.png" ContentType="image/png"/>
  <Override PartName="/ppt/media/image46.jpeg" ContentType="image/jpeg"/>
  <Override PartName="/ppt/media/image48.png" ContentType="image/png"/>
  <Override PartName="/ppt/media/image50.jpeg" ContentType="image/jpeg"/>
  <Override PartName="/ppt/media/image52.png" ContentType="image/png"/>
  <Override PartName="/ppt/media/image5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avstveni sist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 Snežana Simi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3FCF-4594-4C76-843F-5AC22D00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EA57-0AB6-4F28-A199-ECD2B06C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avstveni sistem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 Snežana Simić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3A7B-28D6-4DFB-90A1-F4D5E64E2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ивлји запад мо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avstveni sistem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 Snežana Simić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B62-8F30-4A6C-8760-361AA268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ивлји запад мо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avstveni sistem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 Snežana Simić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5C1B-0654-4325-8DC8-1EEC3390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04B1-D28B-400E-8616-6F38691CA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784-11C4-4CBC-BB32-A3678DA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2D8-AD0A-4D2C-9D5A-CB054C56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AFD-388A-4EFA-B6B3-F2926412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2C2-0AAA-44CB-8F9B-502602CD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E2F-9DB8-4CD3-B4F4-72C41C41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01B-3DD1-498D-BC29-24790FBD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05FB-EC7C-4DC3-B8D6-45E7999B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3D3-36EB-4091-BBE5-3FF4C67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1619-75D5-42A2-B190-ACD9A914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7005-C97C-47F1-AB8A-358202C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778-D799-4EE4-862E-7806BE7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BD1-81AB-43A0-961B-1426CFE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E09A-3522-4CB4-A34E-6697168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8A3F-3563-43CE-AE32-6E0B432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CA80-7E87-41D4-8007-016F866A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C751-A711-4A79-85F7-F0378CC7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8281-AD33-403B-9256-E8F730ED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50EC-8A54-4FBD-96F8-B28D6E92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2E2B-DB34-4104-892B-BF45E5B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4EF8-B988-4568-A4F9-3BC43C5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E30F-008F-417E-8AD1-C832D9BB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9045-D6C8-4796-BD84-C3249C5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9FF-9CCD-47BA-BB86-FB9AADA2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C7D9-E689-4F38-A024-A9623C67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864E-789F-45D6-8BB5-69979CA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A72B-DD5D-4A6F-9C0B-6FD8E27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95EC-0374-4954-A35B-38FCC5C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B05D-B9C8-4A8B-A4BD-047A800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9741-28EA-41BB-AB30-4DE51F78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38E1-E8D4-4029-9635-942F2C26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2F19-A3A9-4819-BF3B-7B1F0554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B72F-4AC9-43DF-9811-8E1072C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E78D-3E16-46DB-97EB-18F5851A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417-E7A9-43C2-85B5-AA43E186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4B6F-B874-4FE8-BE66-DCC091A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B933-FE72-4399-ABAC-AE9EC9B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ABF3D-5726-40EB-ADEF-ED859B4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4337-207B-4B3C-951D-EBA53CC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BCE7E-0928-4020-9044-EF77521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2628-7431-40C4-A667-4E266C3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6583-9152-4D2C-AEA9-756BA510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D7C1-9B3A-4341-8453-3F015FB4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CDBF-9A97-4073-A7BB-E2D482B0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CFC10-8DDB-4BC8-98AC-59E30091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292-B5FD-42CC-BD3B-9B325683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6C03-463E-4EBC-9CB8-7E5F2422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277D-D346-4003-B2E6-302F6979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ED5A-B162-452B-A441-03BBC942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3222-55CC-42B0-BCEA-AFCE2A6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955D8-5780-4C0F-8433-B464CC72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6233E-D211-4558-8853-BC22806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8A77C-122A-49AF-8D36-CE207AB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AEA8-DF12-4BED-9AAB-36BA1BD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B832-7188-45EA-9B2D-D781D079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6FAE-66E4-43ED-ABD4-092817E7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265-91A8-41AF-891A-1BFC3C6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7FD2-60B9-4A66-B7BB-CCA2AACD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85CE-3E82-4AFE-AEC0-280DE98B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E18DB-F63C-48E2-85E6-F47AB46C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4D61-9B03-4C37-804D-4BA89CB6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2576-4D17-4205-903F-E886F77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FAAC-B4A5-45D0-A824-6A2298E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F45A-34D3-48DE-B567-B111AE5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FF88-4DAA-40C1-AC4F-6F0F9D3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F5A1-E1ED-47F9-BC6C-0383D87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348B-E57D-41F8-B175-527FD02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650-5381-45C0-9A26-12069B0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F216-A951-4327-8507-BF46F180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F40A-C119-45A3-884A-6BE1E421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31B8D-E21C-4892-9AFD-D2AFEB31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DEB1-0847-46DE-8780-A30BA088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6223-F857-4474-86E5-0ADA2A4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9A5D-6FBE-4AD2-A296-8EE93663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1B57-03AE-411B-899C-4DEF0480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CFA7-4405-4C4E-9183-750A86C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7D4C0-BC4C-4D09-9B1E-985029E8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53426-4B17-47BE-8677-60068A6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EBF-998F-4D40-B8A3-3E50F1F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ECD6-F859-4DA5-BD82-E4F9BC9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48270-C0D8-4585-AA9E-73BC2C8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EA8C2-D0F5-4FF6-9B6A-908093D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C3E1-04D9-46FE-8224-1E592677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FC3B0-9F24-47A0-9D45-DC15DBD0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024E-2111-4FEE-A62A-5DCE3CE3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0473E-91AC-4CC9-A854-4B2505B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2A74-D6EF-496D-9365-452EA430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C5F61-7DE1-477D-BE2C-B1ECD74A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A0E4F-B747-41D4-AD30-AAA866D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CB1-813F-4D3A-A0C8-2ED6BD3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55E07-C390-450F-8453-4E288E8B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43D9-0B51-4B83-8126-3FBACD2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6125E-D25A-456A-857F-9430D89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C026-04C6-4FA8-AC03-EC8AEA9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4BC8-41ED-4029-940D-9D6E6E9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72F7-4EB9-4633-9D43-36FACC92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80AD4-51FB-401D-943C-F3C69F27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99F8-6109-4BF5-9BE1-6084C44F31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B7E6-2644-4DA0-B90F-218DE32DC2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3E32-A4A5-435A-84B5-C363A269A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B06D-0674-44C2-A1A4-7DE03D662F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FAEF-2129-48EA-BE61-E6D3C0702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4235-D8ED-4981-9F96-4B75BCF3F7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4A1-EC4D-447E-809B-1F1D2290BA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esor dr Snežana Sim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B85E-4172-4175-A13E-59E4DD5BE6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85000" cy="1157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42800" y="248112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64646"/>
                </a:solidFill>
                <a:latin typeface="Calibri"/>
                <a:ea typeface="Calibri"/>
              </a:rPr>
              <a:t>ФИНАНСИРАЊЕ СИСТЕМА ЗДРАВСТВЕНЕ ЗАШТИТ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464646"/>
                </a:solidFill>
                <a:latin typeface="Calibri"/>
                <a:ea typeface="Calibri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685800" y="5275080"/>
            <a:ext cx="8077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46" descr=""/>
          <p:cNvPicPr/>
          <p:nvPr/>
        </p:nvPicPr>
        <p:blipFill>
          <a:blip r:embed="rId2"/>
          <a:stretch/>
        </p:blipFill>
        <p:spPr>
          <a:xfrm>
            <a:off x="7518240" y="233280"/>
            <a:ext cx="1397160" cy="1683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ttp://physics.kg.ac.rs/fizika/scopes/kg.png"/>
          <p:cNvPicPr/>
          <p:nvPr/>
        </p:nvPicPr>
        <p:blipFill>
          <a:blip r:embed="rId3"/>
          <a:stretch/>
        </p:blipFill>
        <p:spPr>
          <a:xfrm>
            <a:off x="419040" y="401760"/>
            <a:ext cx="110484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705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кови, вакцине односно здравстве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хнологије  имају значајну улогу у многим областима здравствене заштите уколико 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доступ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економски исплатив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квалитет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правилно употребљава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научно утемење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и могу на једноставан и ефикасан начин да реш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  роблем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12"/>
          <p:cNvSpPr/>
          <p:nvPr/>
        </p:nvSpPr>
        <p:spPr>
          <a:xfrm>
            <a:off x="21096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9" descr="Резултат слика за поtrošnja lekova"/>
          <p:cNvPicPr/>
          <p:nvPr/>
        </p:nvPicPr>
        <p:blipFill>
          <a:blip r:embed="rId2"/>
          <a:stretch/>
        </p:blipFill>
        <p:spPr>
          <a:xfrm>
            <a:off x="4788000" y="2781360"/>
            <a:ext cx="4103640" cy="187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347760" y="298440"/>
            <a:ext cx="8332560" cy="1225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79660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Прукуљање финансијских средстава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Расподела средстава међу осигураницима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Плаћање давалаца здравствених услуга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4041080" y="9693000"/>
            <a:ext cx="539640" cy="44280"/>
          </a:xfrm>
          <a:prstGeom prst="rect">
            <a:avLst/>
          </a:prstGeom>
          <a:ln w="0">
            <a:noFill/>
          </a:ln>
        </p:spPr>
      </p:pic>
      <p:sp>
        <p:nvSpPr>
          <p:cNvPr id="425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Резултат слика за новац"/>
          <p:cNvPicPr/>
          <p:nvPr/>
        </p:nvPicPr>
        <p:blipFill>
          <a:blip r:embed="rId3"/>
          <a:stretch/>
        </p:blipFill>
        <p:spPr>
          <a:xfrm>
            <a:off x="1258920" y="4221000"/>
            <a:ext cx="6913440" cy="22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55600" y="212760"/>
            <a:ext cx="8437680" cy="13478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705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ез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и,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мије осигурањ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чно учешће осигураних лица у трошковима здравствене заштите (партиципација)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ћање пуне цене здравствених услуг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нације, прилози и поклони међународних и домаћих институција и појединац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21096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2" name="Picture 6" descr="Резултат слика за порези"/>
          <p:cNvPicPr/>
          <p:nvPr/>
        </p:nvPicPr>
        <p:blipFill>
          <a:blip r:embed="rId2"/>
          <a:stretch/>
        </p:blipFill>
        <p:spPr>
          <a:xfrm>
            <a:off x="4572000" y="1628640"/>
            <a:ext cx="4172040" cy="144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705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авни приходи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атно осигурање и лично учешћ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21096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8" descr="Резултат слика за public"/>
          <p:cNvPicPr/>
          <p:nvPr/>
        </p:nvPicPr>
        <p:blipFill>
          <a:blip r:embed="rId2"/>
          <a:stretch/>
        </p:blipFill>
        <p:spPr>
          <a:xfrm>
            <a:off x="3635280" y="1628640"/>
            <a:ext cx="2952720" cy="14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Резултат слика за привате инсуранце"/>
          <p:cNvPicPr/>
          <p:nvPr/>
        </p:nvPicPr>
        <p:blipFill>
          <a:blip r:embed="rId3"/>
          <a:stretch/>
        </p:blipFill>
        <p:spPr>
          <a:xfrm>
            <a:off x="5940360" y="4508640"/>
            <a:ext cx="2855880" cy="159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53964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рактеристичан је за земље са системом националне здравствене служб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ез је облик јавних прихода које држава  наплаћује од физичких и правних лица као обавезна и неповратна давања  за покриће друштвених потреб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нудна,ненаменска издвaјањ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шт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ецифични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Резултат слика за порези"/>
          <p:cNvPicPr/>
          <p:nvPr/>
        </p:nvPicPr>
        <p:blipFill>
          <a:blip r:embed="rId2"/>
          <a:stretch/>
        </p:blipFill>
        <p:spPr>
          <a:xfrm>
            <a:off x="5580000" y="3860640"/>
            <a:ext cx="3016440" cy="237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53964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ради покривања дефицита фонд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покривање трошкова здравствене заштите одређених групација становниш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финансирање инвестиција здравствених установа од ширег знача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покриће трошкова одређених програма здравствене заштит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Резултат слика за буџет"/>
          <p:cNvPicPr/>
          <p:nvPr/>
        </p:nvPicPr>
        <p:blipFill>
          <a:blip r:embed="rId2"/>
          <a:stretch/>
        </p:blipFill>
        <p:spPr>
          <a:xfrm>
            <a:off x="5148360" y="4581360"/>
            <a:ext cx="3233520" cy="172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539640" y="1341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Карактеристичан је за земље  са системом социјалног осигурањ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предсављају најважније изворе прихода ових фонд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н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наменска издвајањ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принцип солидарности - обрачунавају се на основу процента који се примењује  од остварене зарад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принцип узајам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ћају га и осигураници и послодавц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39640" y="119664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езбеђуји се средства  за финасирање обавезног социјалног  осигурањ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и који се плаћају на зараду су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 за пензијско и инвалидско (ПИО), допринос за здравствено осигурање, допринос за случај 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ослености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ош плаћамо порез на зарад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ослен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ални предузетниц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ивачи привредних друшта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нзионер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ниц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ални уметниц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вештениц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Резултат слика за доприноси"/>
          <p:cNvPicPr/>
          <p:nvPr/>
        </p:nvPicPr>
        <p:blipFill>
          <a:blip r:embed="rId2"/>
          <a:stretch/>
        </p:blipFill>
        <p:spPr>
          <a:xfrm>
            <a:off x="3995640" y="3429000"/>
            <a:ext cx="4846680" cy="265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ци до навршених 15.год. живота, школској деци и студентима до завршетка школовања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енама у току трудноће, порођаја и материнства до 12 месец након порођаја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цима старија од 65 год.живо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цима која се лече  од ХИВ-а, малигних болести,хемофилије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ерјално необезбеђеним лицима, незапосленим лицима, корисницима сталних новчаних помоћи, као и помоћи за смештај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беглим, расељеним и прогнаним лицим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10920" y="1628280"/>
            <a:ext cx="799308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разумева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куп  међусоб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везаних елемен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ko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заје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во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стиз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иљев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реди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г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0f0"/>
              </a:solidFill>
              <a:latin typeface="Tahoma"/>
            </a:endParaRPr>
          </a:p>
        </p:txBody>
      </p:sp>
      <p:pic>
        <p:nvPicPr>
          <p:cNvPr id="385" name="Picture 2" descr="Rezultat slika za system"/>
          <p:cNvPicPr/>
          <p:nvPr/>
        </p:nvPicPr>
        <p:blipFill>
          <a:blip r:embed="rId1"/>
          <a:stretch/>
        </p:blipFill>
        <p:spPr>
          <a:xfrm>
            <a:off x="1979640" y="4437000"/>
            <a:ext cx="453708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себни порез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тације из буџе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чно учешће осигурани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еске и царинске олакшиц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ћање одређених здравствених услуга у пуном износ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Резултат слика за извори новца анимирано"/>
          <p:cNvPicPr/>
          <p:nvPr/>
        </p:nvPicPr>
        <p:blipFill>
          <a:blip r:embed="rId2"/>
          <a:stretch/>
        </p:blipFill>
        <p:spPr>
          <a:xfrm>
            <a:off x="4500720" y="4221000"/>
            <a:ext cx="3935160" cy="230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53964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ртиципа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представља лично учешће осигураника у трошковима коришћења здравствене заштите, односно доплаћивање одређене суме у фиксном или процентуалном износу од цене услуге у моменту њеног коришћењ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бог претераног раста трошков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достатак средстава за финансирање здравственог систе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 додатни извор средстава здравственог осигурања или да регулише здравствену потроше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53964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стоматолошке  услуг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ришћење специјалистичких услуга и одређене дијагностик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санитетски материја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ков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гала и све облике рехабилита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Резултат слика за партиципација"/>
          <p:cNvPicPr/>
          <p:nvPr/>
        </p:nvPicPr>
        <p:blipFill>
          <a:blip r:embed="rId2"/>
          <a:stretch/>
        </p:blipFill>
        <p:spPr>
          <a:xfrm>
            <a:off x="1908000" y="4437000"/>
            <a:ext cx="6624720" cy="187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53964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ца до 7 година и старији од 65 годи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уднице и породиљ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јално угрожене особ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зички и ментално хендикепиране особ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олели од одређених врста боле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6691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539640" y="1341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ваоци да остваре што већу зараду кроз: пружање што већег или мањег броја услуга, скраћивањем  трајања лечења, избегавањем  пријема осигураних лица, прекомерно коришћење скупе опрем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ни који плаћају стреме да остваре што бољи квалитет и повећају обим услуга уз што мање улагање односно плаћањ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РЕЗ – како би се  избегли прекомерни трошкови а постигао што бољи квалитет здравствених услуга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8540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378000" y="-128520"/>
            <a:ext cx="7242120" cy="16524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7356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ритеријум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ел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17480" indent="-717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ухв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ништ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17480" indent="-717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о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17480" indent="-717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сништ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град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рем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7" descr="Резултат слика за Организација за економску сарадњу и развој (OECD) србија"/>
          <p:cNvPicPr/>
          <p:nvPr/>
        </p:nvPicPr>
        <p:blipFill>
          <a:blip r:embed="rId2"/>
          <a:stretch/>
        </p:blipFill>
        <p:spPr>
          <a:xfrm>
            <a:off x="5076720" y="4149720"/>
            <a:ext cx="2700360" cy="197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39280" y="1866960"/>
            <a:ext cx="81471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.На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ужб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вериџо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.Моде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авез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ијал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гурањ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из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ко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де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.Моде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ат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де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завис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рисни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вљ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де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63680" y="774720"/>
            <a:ext cx="8242200" cy="10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4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3525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тпу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ухв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ништ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100%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обод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ступ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уг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жав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уџе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е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ант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жав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сништ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град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рем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емље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нглеска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рска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нада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кандинавске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емље, Медитеранске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љ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e -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ртугалиј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Шп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иј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т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лиј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Грчк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536400" y="182520"/>
            <a:ext cx="7826400" cy="13413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тпу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ухв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ништ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оше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валите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уџе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нтр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ни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прављ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жав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сништ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ат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штве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Бивше земље совјетског савез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5" descr="Сродна слика"/>
          <p:cNvPicPr/>
          <p:nvPr/>
        </p:nvPicPr>
        <p:blipFill>
          <a:blip r:embed="rId2"/>
          <a:stretch/>
        </p:blipFill>
        <p:spPr>
          <a:xfrm>
            <a:off x="4932360" y="3933720"/>
            <a:ext cx="3600360" cy="196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ухв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60 – 8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ништ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авез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ке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/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рп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ћ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осл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њихо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слодав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ант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штве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жав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сништ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град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рем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емљ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ачк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ол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диј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Фр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цус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лгиј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Аустр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ija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5" descr="Сродна слика"/>
          <p:cNvPicPr/>
          <p:nvPr/>
        </p:nvPicPr>
        <p:blipFill>
          <a:blip r:embed="rId2"/>
          <a:stretch/>
        </p:blipFill>
        <p:spPr>
          <a:xfrm>
            <a:off x="7164360" y="4292640"/>
            <a:ext cx="1835280" cy="20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 систе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ља скуп свих  организација, институција и ресурса посвећених и  усмерених ка предузимању акција чија је основна сврха, побољшање, очување или обнављање здравља људ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Picture 8" descr="Погледајте оригиналну слику"/>
          <p:cNvPicPr/>
          <p:nvPr/>
        </p:nvPicPr>
        <p:blipFill>
          <a:blip r:embed="rId1"/>
          <a:stretch/>
        </p:blipFill>
        <p:spPr>
          <a:xfrm>
            <a:off x="4932360" y="4149720"/>
            <a:ext cx="3716280" cy="20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365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566640" y="1699920"/>
            <a:ext cx="7174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ухв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ништ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елик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рој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осигура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ни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о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ат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м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ант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ат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сништ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град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рем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емљ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Швајцарс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урс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Footer Placeholder 5"/>
          <p:cNvSpPr/>
          <p:nvPr/>
        </p:nvSpPr>
        <p:spPr>
          <a:xfrm>
            <a:off x="291636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4" descr="Резултат слика за дивлји запад"/>
          <p:cNvPicPr/>
          <p:nvPr/>
        </p:nvPicPr>
        <p:blipFill>
          <a:blip r:embed="rId2"/>
          <a:stretch/>
        </p:blipFill>
        <p:spPr>
          <a:xfrm>
            <a:off x="5219640" y="4581360"/>
            <a:ext cx="3600360" cy="20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3654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31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абости- оставља  велики део популације с недовољним или никаквим осигурањем, што за последицу има лошије здравствено стање становништва са нижим доходк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атно здравствено осигурање је економски неделотворно због појаве дисекономије обима, неповољне селекције и моралног хазард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секономија обима јавља се као последица постојања већег броја компанија које нуде здравствено осигурање. Јављају се трошкови којих нема или су мали ако се ради о обавезном здравственом осигутањ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291636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1494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795672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јал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игура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ц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езбеђ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г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е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зајамност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лидарно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нциклопеид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1985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Footer Placeholder 5"/>
          <p:cNvSpPr/>
          <p:nvPr/>
        </p:nvSpPr>
        <p:spPr>
          <a:xfrm>
            <a:off x="3132000" y="6165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7" name="Picture 7" descr="Rezultat slika za здравствено осигурање"/>
          <p:cNvPicPr/>
          <p:nvPr/>
        </p:nvPicPr>
        <p:blipFill>
          <a:blip r:embed="rId2"/>
          <a:stretch/>
        </p:blipFill>
        <p:spPr>
          <a:xfrm>
            <a:off x="5435640" y="4005360"/>
            <a:ext cx="2928960" cy="18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1494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79567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ма објекту који се осигурава дели се  на осигурање имовине (осигурање ствари или осигурање од штете) и осигурање лица (осигурање живота и здрављ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ма методу спровођења, може бити: обавезно и добровољно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 посебан облик осигурања, издваја се социјално осигурањ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Footer Placeholder 5"/>
          <p:cNvSpPr/>
          <p:nvPr/>
        </p:nvSpPr>
        <p:spPr>
          <a:xfrm>
            <a:off x="3132000" y="6165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7" descr="Резултат слика за здравствено осигурање"/>
          <p:cNvPicPr/>
          <p:nvPr/>
        </p:nvPicPr>
        <p:blipFill>
          <a:blip r:embed="rId2"/>
          <a:stretch/>
        </p:blipFill>
        <p:spPr>
          <a:xfrm>
            <a:off x="5003640" y="3645000"/>
            <a:ext cx="3888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693280" cy="1494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795672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ед обавезног здравственог осигурања Уредбом о добровољном здравствено осигурању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ужбени гласник ПС 108/2008 и 49/2009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веден је нови облик осигурања који се односи н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добровољно здравствено осигурање за случај коришћења здравствене заштите осигураника за време пута и боравкау иностранство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колективно добровољно осигурање лица за случај тежих болести с допунским ризицим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добровољно здравствено осигурање за стоматолошке  здравствене услуг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Footer Placeholder 5"/>
          <p:cNvSpPr/>
          <p:nvPr/>
        </p:nvSpPr>
        <p:spPr>
          <a:xfrm>
            <a:off x="3132000" y="6165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Title 1" descr=""/>
          <p:cNvPicPr/>
          <p:nvPr/>
        </p:nvPicPr>
        <p:blipFill>
          <a:blip r:embed="rId1"/>
          <a:stretch/>
        </p:blipFill>
        <p:spPr>
          <a:xfrm>
            <a:off x="268200" y="-139680"/>
            <a:ext cx="8425080" cy="11635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стућа здравствена потрошња постала је главни проблем здравствене политике током последње деценије двадесетог века  у већини индустријски развијених земаљ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сходи у здравству расту око два пута брже него укупан бруто домаћи производ високо развијених земаљ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треба контроле здравствене потрошње постаје све изражениј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бог креирања здравствене политике, важно је знати који чиниоци одређују  здравствену потрошњ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9" name="Picture 5" descr="http://www.who.int/entity/health-accounts/platform_approach_110x85.png"/>
          <p:cNvPicPr/>
          <p:nvPr/>
        </p:nvPicPr>
        <p:blipFill>
          <a:blip r:embed="rId2"/>
          <a:stretch/>
        </p:blipFill>
        <p:spPr>
          <a:xfrm>
            <a:off x="6372360" y="5445000"/>
            <a:ext cx="2016000" cy="11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                   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ХВАЛА НА ПАЖЊИ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3964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ља комплексан социј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коном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нтите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их алата 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ц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чув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напређе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стиг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личите друштв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иљев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Rezultat slika za health systems"/>
          <p:cNvPicPr/>
          <p:nvPr/>
        </p:nvPicPr>
        <p:blipFill>
          <a:blip r:embed="rId2"/>
          <a:stretch/>
        </p:blipFill>
        <p:spPr>
          <a:xfrm>
            <a:off x="4643280" y="4292640"/>
            <a:ext cx="4176720" cy="20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68000" y="177300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напређе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а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ед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ич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лидар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ришће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езбеђив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валитет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уг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збед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лотвор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кономски исплативи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73080" y="201600"/>
            <a:ext cx="8778960" cy="1285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Резултат слика за цилј"/>
          <p:cNvPicPr/>
          <p:nvPr/>
        </p:nvPicPr>
        <p:blipFill>
          <a:blip r:embed="rId2"/>
          <a:stretch/>
        </p:blipFill>
        <p:spPr>
          <a:xfrm>
            <a:off x="5148360" y="4653000"/>
            <a:ext cx="3671640" cy="172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324000" y="4054320"/>
            <a:ext cx="6673680" cy="919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61092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сање здравствене политик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а регулатива и законодавство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оординисање функцијама система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Резултат слика за upravljanje"/>
          <p:cNvPicPr/>
          <p:nvPr/>
        </p:nvPicPr>
        <p:blipFill>
          <a:blip r:embed="rId2"/>
          <a:stretch/>
        </p:blipFill>
        <p:spPr>
          <a:xfrm>
            <a:off x="3276720" y="3716280"/>
            <a:ext cx="5111640" cy="233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ене услуге треба да буду пружене  делотворно, безбедно по корисника, квалитетно, када и где су потребне, с оптималним коришћењем увек ограничених ресурс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марни нив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кундарни нив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рцијарни нив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10920" y="1844280"/>
            <a:ext cx="532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сурси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Лекар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тоамтолози, фармацеу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Медицинск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стр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техничар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Сарадниц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нове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град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Опрем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Санитетск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атерија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12"/>
          <p:cNvSpPr/>
          <p:nvPr/>
        </p:nvSpPr>
        <p:spPr>
          <a:xfrm>
            <a:off x="21096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10" descr="Сродна слика"/>
          <p:cNvPicPr/>
          <p:nvPr/>
        </p:nvPicPr>
        <p:blipFill>
          <a:blip r:embed="rId2"/>
          <a:stretch/>
        </p:blipFill>
        <p:spPr>
          <a:xfrm>
            <a:off x="594036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Резултат слика за кц крагујевац зграда фотографије"/>
          <p:cNvPicPr/>
          <p:nvPr/>
        </p:nvPicPr>
        <p:blipFill>
          <a:blip r:embed="rId3"/>
          <a:stretch/>
        </p:blipFill>
        <p:spPr>
          <a:xfrm>
            <a:off x="5148360" y="3716280"/>
            <a:ext cx="3533760" cy="24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55:00Z</dcterms:created>
  <dc:creator>Snezana Simic</dc:creator>
  <dc:description/>
  <dc:language>en-US</dc:language>
  <cp:lastModifiedBy>Windows User</cp:lastModifiedBy>
  <dcterms:modified xsi:type="dcterms:W3CDTF">2021-01-31T15:21:02Z</dcterms:modified>
  <cp:revision>424</cp:revision>
  <dc:subject/>
  <dc:title>SISTEMI ZDRAVSTVENE ZAŠTITE</dc:title>
</cp:coreProperties>
</file>